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1D0-99EE-4C17-9252-8C11DDDE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F63-4749-4CC5-B6AA-8A689E6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2DD-C593-4404-9A85-289690F8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5C0-EE9C-468A-B47F-3FB82AF7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086-1C99-4189-9F04-D8DEB2C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FA2-A2B5-4301-8C06-CD0AF2D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F92-38DE-4B5A-AAAA-DF5353AE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F8C-33BD-4547-A9AE-E050827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C7F-61D2-44D2-BC81-D99A9F34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517-6E60-4BAB-B235-C9672F0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FCF-1928-49C4-B631-888BD65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DD7-9376-467C-A91B-8145FAB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8095-6673-4156-AA2F-C67A5F3D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Carolina Gov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: Topics I,II,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920" y="263520"/>
            <a:ext cx="8865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NC Commun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(Stat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Cour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wann v. Charlotte-Meckla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Leandr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ublic v. Privat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hart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Education L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braries, Community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ck of: Money,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blems: Drugs, Crime, Drop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Feder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 Child Left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ndardized Testing,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44680" y="525600"/>
            <a:ext cx="487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oc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olice/Fire/9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ci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ANF,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Bureau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Environme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lid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ci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azard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ir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5840" y="609480"/>
            <a:ext cx="6990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NC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te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rpor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er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tilit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censes,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frastructure, 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hort Term v. Long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orities +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saster Relief (Natural/Terror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ste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91440" y="301680"/>
            <a:ext cx="761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Roots of NC Gov’t (C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Colonial 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First In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cklenburg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alifax Resolves (1s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C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4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amendments, Just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835, 1868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NC Particu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gregation/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reensboro S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omen’s Suf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258120" y="114480"/>
            <a:ext cx="10430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NC State Government (C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l Assembly (Congress) Bicam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ocal/Speci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drawn after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- 21 yrs old, 1 yr District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-25 yrs old, 2 yr Citizen, 1 yr District 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,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8800" y="544680"/>
            <a:ext cx="819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0yrs old, 5yr US citizen; 2 year NC 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four year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s of executi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eutenant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st woman LG; Bev Pur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ed Separately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ecutiv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head administrators (cab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cil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98920" y="488880"/>
            <a:ext cx="6988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strict Courts (usu 1 per cou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Jury (6th amend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venil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vorce/Famil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affic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vil Cases less than $10,000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perior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vil Cases more than $10,000 (F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s case again i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tate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sues w/ NC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ther cases to be over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 Judges elected for 8yr 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4520" y="431640"/>
            <a:ext cx="84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ortan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erk of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gi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trict Atto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NC Landmark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te v. 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wann v. Charlotte-Mecklenburg (State Suprem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Leandr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UMMARY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6880" y="152280"/>
            <a:ext cx="7700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tructure/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d by state of 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ies (100); County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nicipalities (Many;5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ities,Towns,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ecutive &amp;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st subdivision of State (100/N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unty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nty Commis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unt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y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eriff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pt of Register and D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GE 4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pecial District I.e. school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8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unicipalities (units of 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ecutive &amp;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 through char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nn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ion of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ty Council/Town Council/Boar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er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yors, Council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ity Gov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At-Larg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yor-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ong Mayor v. Weak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ncil-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iss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2280" y="2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080" y="395280"/>
            <a:ext cx="7514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unicipal &amp;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penditures: Water,Sewer, Police,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venues: Utility fees, Property T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alance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Govern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mbulanc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rks and Re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ublic Ut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25:22Z</dcterms:created>
  <dc:creator>Chatham Central</dc:creator>
  <dc:description/>
  <dc:language>en-US</dc:language>
  <cp:lastModifiedBy>Chatham Central</cp:lastModifiedBy>
  <dcterms:modified xsi:type="dcterms:W3CDTF">2009-03-13T19:24:00Z</dcterms:modified>
  <cp:revision>9</cp:revision>
  <dc:subject/>
  <dc:title>North Carolina Gov’t</dc:title>
</cp:coreProperties>
</file>